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E0C9-C76F-4A38-B16B-27343648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546-838D-47B5-A988-ED17CFDE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EC7C-B350-459B-A3AD-16B5BE2E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47FE-AB79-4B87-AFC9-917C280F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6FD9-05E7-4C97-88A6-141A6FFD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45C8-12D6-46AE-A4FA-B72E05BF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AC69-A65E-4F21-AC7A-ECC76E63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D278-0129-4FDD-89B1-F141CAF5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2565-EDBB-4774-B6AB-8CEA107F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BA55-74AB-4A32-8F21-600491D0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A311-4E15-43CE-B167-B5F62E23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F6E-175C-4BCA-A719-0B0F24FE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46FE-00D6-4A68-850C-B46B6139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C5C7-E198-46D3-ABD3-26A924E9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5199-9DA6-44B9-942A-84FFF8B9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0C11-9CBC-4A5C-AD66-14DBFC792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3E15-E0DC-4CC6-AEB5-BF7EA359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2AA-02A8-4A39-A657-CECBBF30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BF2-2C0F-4FEB-8511-452A2D8E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112A-9BC3-4FB3-A1E3-9F17798F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CF4-EA7E-4425-A7D3-986B2BB2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4B75-626C-4B7E-8870-20249102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9C7-CAF7-4626-9678-14DE621B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58E-86BE-4CF4-813E-F2F8C37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2028B-4579-4EB4-8DFD-62CE8187FD48}" type="slidenum">
              <a:rPr b="1" lang="en-N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FFE6-CEC7-43D8-A33B-A99196853ECB}" type="slidenum">
              <a:rPr b="1" lang="en-N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3366"/>
                </a:solidFill>
                <a:latin typeface="Arial"/>
              </a:rPr>
              <a:t>Why do we study films?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3280" y="2924280"/>
            <a:ext cx="367380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was the film abo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did you like about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parts made you feel happy or sa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9079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We start with simple questions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We want to know that you understan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18280" y="104400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hen the questions start to get </a:t>
            </a:r>
            <a:br>
              <a:rPr sz="3200"/>
            </a:b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more difficult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lessons are there in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did the director tell the stor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emotions were created in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You need to think more, and write longer answer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is the film relevant to society and our own liv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y was the story told in this mann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did the director create an atmosphere, effect, or emo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his is to help you evaluate and think critically about what you read and see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does this film help us understand other beliefs and cultur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was the director’s purpose in creating this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successful were the director’s attempts to create specific effects in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he film is a way of showing you how to think about things differently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t doesn’t matter whether you hate the film or love it; what is important is showing you understand </a:t>
            </a:r>
            <a:r>
              <a:rPr b="0" lang="en-NZ" sz="2800" spc="-1" strike="noStrike" u="sng">
                <a:solidFill>
                  <a:srgbClr val="003366"/>
                </a:solidFill>
                <a:uFillTx/>
                <a:latin typeface="Arial"/>
              </a:rPr>
              <a:t>how</a:t>
            </a: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NZ" sz="2800" spc="-1" strike="noStrike" u="sng">
                <a:solidFill>
                  <a:srgbClr val="003366"/>
                </a:solidFill>
                <a:uFillTx/>
                <a:latin typeface="Arial"/>
              </a:rPr>
              <a:t>why</a:t>
            </a: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 it was ma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he director had a purpose – what was 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he film makes people feel different emotions at different times.  How does it do th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o answer these questions, you will need to know film techniqu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Structural techniques such as montage, flashback, narration, split scree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Visual techniques such as close up, long shot, high angle, colour, lighting, costu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Sound technqiues such as dialogue, music, sound effec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6666"/>
                </a:solidFill>
                <a:latin typeface="Arial"/>
              </a:rPr>
              <a:t>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n the end-of-year exam you will write an essay on an extended text (film, novel, or non-fiction book) you have studied in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n this essay, you will write about </a:t>
            </a:r>
            <a:r>
              <a:rPr b="0" lang="en-NZ" sz="2800" spc="-1" strike="noStrike" u="sng">
                <a:solidFill>
                  <a:srgbClr val="003366"/>
                </a:solidFill>
                <a:uFillTx/>
                <a:latin typeface="Arial"/>
              </a:rPr>
              <a:t>one aspect</a:t>
            </a: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 of the film – a character, an idea, a sce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his will test your understanding of the film, and also your ability to clearly express and develop ideas in your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6666"/>
                </a:solidFill>
                <a:latin typeface="Arial"/>
              </a:rPr>
              <a:t>What now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ake notes and keep them tidy, for revision at the end of the ye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Ask questions and offer ideas to help you and your classmates understand the fil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f you miss a lesson, catch up on notes from someone else in the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ire the film from your video store and watch it at home if you need 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06:46:34Z</dcterms:created>
  <dc:creator>Libby</dc:creator>
  <dc:description/>
  <dc:language>en-US</dc:language>
  <cp:lastModifiedBy>Libby</cp:lastModifiedBy>
  <dcterms:modified xsi:type="dcterms:W3CDTF">2009-07-18T07:26:05Z</dcterms:modified>
  <cp:revision>4</cp:revision>
  <dc:subject/>
  <dc:title>Why do we study films?</dc:title>
</cp:coreProperties>
</file>