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045-D8CA-469C-A3EC-4645B860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365-C1D5-4794-9196-E12D5E3F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4C9-C89B-4DC3-BA5B-F872B2A1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7A5-8192-4744-8415-8C7EF35B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B966-16BB-4D61-84F0-E2CA26EF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9D38-B32E-4FA9-A5F0-CFB17BF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868A-B043-43C3-8C4B-745998A8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1C9E-9AB8-4C8A-959A-6AA4520D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1497-4394-4F99-B8D2-DA40E7D0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55DC-677D-4312-80F0-753E9A4D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B474-D9B9-4992-ADD4-69CB2FD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8E03-8DA8-4BB3-A1FA-4E21D0D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1043-88F4-4E86-8AF6-5CB2E7DC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D7B7-D1DC-4DD4-915D-1A7313AD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100B-96AB-4339-A496-EB64C578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1F7F-B3F9-423D-932F-69CBCB51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B380-42FB-466E-925C-B4674F15E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71C-1D69-4F47-B4DB-EAB94659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B6CD-A8CD-4E62-B15D-5BFABB76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3F51-1EE7-4A93-ADEC-F3DE8E6B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2800-1A6D-4CCD-9361-CC8D6E93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525F-721E-44E7-95EA-79941329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4C73-2701-483A-8CA5-6B70A1B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7C8E-5914-41E9-A75B-17090DFB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BA1B-4D16-4059-90A4-0E3FDB53D25A}" type="slidenum">
              <a:rPr b="1" lang="en-N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FDFE-724F-449D-8589-CC507776D2ED}" type="slidenum">
              <a:rPr b="1" lang="en-N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3366"/>
                </a:solidFill>
                <a:latin typeface="Arial"/>
              </a:rPr>
              <a:t>Why do we study films?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3280" y="2924280"/>
            <a:ext cx="36738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was the film ab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did you like about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parts made you feel happy or sa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907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We start with simple questions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We want to know that you understan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8280" y="104400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en the questions start to get </a:t>
            </a:r>
            <a:br>
              <a:rPr sz="3200"/>
            </a:b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more difficul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lessons are there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id the director tell the stor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emotions were created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You need to think more, and write longer answer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is the film relevant to society and our own liv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y was the story told in this mann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id the director create an atmosphere, effect, or emo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is is to help you evaluate and think critically about what you read and se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oes this film help us understand other beliefs and cultur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was the director’s purpose in creating this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successful were the director’s attempts to create specific effects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e film is a way of showing you how to think about things differently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t doesn’t matter whether you hate the film or love it; what is important is showing you understand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how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why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it was m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e director had a purpose – what was 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e film makes people feel different emotions at different times.  How does it do th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o answer these questions, you will need to know film techniqu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Structural techniques such as montage, flashback, narration, split scree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Visual techniques such as close up, long shot, high angle, colour, lighting, costu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Sound technqiues such as dialogue, music, sound effec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66"/>
                </a:solidFill>
                <a:latin typeface="Arial"/>
              </a:rPr>
              <a:t>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n the end-of-year exam you will write an essay on an extended text (film, novel, or non-fiction book) you have studied in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n this essay, you will write about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one aspect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of the film – a character, an idea, a sce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is will test your understanding of the film, and also your ability to clearly express and develop ideas in your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66"/>
                </a:solidFill>
                <a:latin typeface="Arial"/>
              </a:rPr>
              <a:t>What now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ake notes and keep them tidy, for revision at the end of the y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Ask questions and offer ideas to help you and your classmates understand the fil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f you miss a lesson, catch up on notes from someone else in the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ire the film from your video store and watch it at home if you need 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06:46:34Z</dcterms:created>
  <dc:creator>Libby</dc:creator>
  <dc:description/>
  <dc:language>en-US</dc:language>
  <cp:lastModifiedBy>Libby</cp:lastModifiedBy>
  <dcterms:modified xsi:type="dcterms:W3CDTF">2009-07-18T07:26:05Z</dcterms:modified>
  <cp:revision>4</cp:revision>
  <dc:subject/>
  <dc:title>Why do we study films?</dc:title>
</cp:coreProperties>
</file>