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B50F-BB7D-43E7-955B-5EDE1F20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B259-CAF2-4766-ACD3-CB1E8AAA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6CA8-6765-482C-B041-6B217422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62AF-7B61-4536-9B1E-2C34260B2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B501-A595-4323-8474-1273397F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36668-F5BC-4F66-818A-6987F0E6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FB26-7FE4-4B72-90C2-76523341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994F-E6F0-4A28-BBC0-B25403C4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AB7C-50AE-4C21-92C0-6DC272BA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64E6-83ED-4357-AD93-C261013D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1AD4-EC12-42FA-9783-05687AF0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B72-ACB3-4074-9B48-BE7FD791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C9B0-B788-4F90-81D9-C4A631BA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AFA4-AFBE-4B3A-8084-A59F6BDF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8078-C66B-4EA4-AA8B-AD58BEAFC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B27E-D5BE-46CC-875F-F0623B31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DA7E-E802-434C-B534-2750CEF1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F897-AD89-48C1-8731-3E7E64C6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371-17F6-4F13-ACA2-E5C493B7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42C1-F286-47E4-B3FD-0E2CA6C6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CC4-E1D5-467D-B5DE-CD559AAD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F38-28F2-42E4-B8C5-335334EC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0F5-B18D-4F8D-9B57-E9A0AB8F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DB46-56FF-4186-9351-FF3CC861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4EFD-EAFE-4FF9-B816-ED82FA92863E}" type="slidenum">
              <a:rPr b="1" lang="en-N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141E-F753-4BFD-9A88-D6BC350FBD2E}" type="slidenum">
              <a:rPr b="1" lang="en-N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3366"/>
                </a:solidFill>
                <a:latin typeface="Arial"/>
              </a:rPr>
              <a:t>Why do we study films?</a:t>
            </a:r>
            <a:endParaRPr b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3280" y="2924280"/>
            <a:ext cx="367380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was the film abou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did you like about the fil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parts made you feel happy or sa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9079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We start with simple questions.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We want to know that you understan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18280" y="1044000"/>
            <a:ext cx="7798680" cy="87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Then the questions start to get </a:t>
            </a:r>
            <a:br>
              <a:rPr sz="3200"/>
            </a:b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more difficult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lessons are there in the fil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ow did the director tell the stor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emotions were created in the fil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27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You need to think more, and write longer answer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ow is the film relevant to society and our own liv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y was the story told in this mann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ow did the director create an atmosphere, effect, or emo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27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This is to help you evaluate and think critically about what you read and see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ow does this film help us understand other beliefs and cultur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What was the director’s purpose in creating this fil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ow successful were the director’s attempts to create specific effects in the film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27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The film is a way of showing you how to think about things differently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It doesn’t matter whether you hate the film or love it; what is important is showing you understand </a:t>
            </a:r>
            <a:r>
              <a:rPr b="0" lang="en-NZ" sz="2800" spc="-1" strike="noStrike" u="sng">
                <a:solidFill>
                  <a:srgbClr val="003366"/>
                </a:solidFill>
                <a:uFillTx/>
                <a:latin typeface="Arial"/>
              </a:rPr>
              <a:t>how</a:t>
            </a: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NZ" sz="2800" spc="-1" strike="noStrike" u="sng">
                <a:solidFill>
                  <a:srgbClr val="003366"/>
                </a:solidFill>
                <a:uFillTx/>
                <a:latin typeface="Arial"/>
              </a:rPr>
              <a:t>why</a:t>
            </a: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 it was ma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The director had a purpose – what was 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The film makes people feel different emotions at different times.  How does it do thi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27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6666"/>
                </a:solidFill>
                <a:latin typeface="Arial"/>
              </a:rPr>
              <a:t>To answer these questions, you will need to know film techniqu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Structural techniques such as montage, flashback, narration, split scree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Visual techniques such as close up, long shot, high angle, colour, lighting, costum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Sound technqiues such as dialogue, music, sound effect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6666"/>
                </a:solidFill>
                <a:latin typeface="Arial"/>
              </a:rPr>
              <a:t>Assess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In the end-of-year exam you will write an essay on an extended text (film, novel, or non-fiction book) you have studied in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In this essay, you will write about </a:t>
            </a:r>
            <a:r>
              <a:rPr b="0" lang="en-NZ" sz="2800" spc="-1" strike="noStrike" u="sng">
                <a:solidFill>
                  <a:srgbClr val="003366"/>
                </a:solidFill>
                <a:uFillTx/>
                <a:latin typeface="Arial"/>
              </a:rPr>
              <a:t>one aspect</a:t>
            </a: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 of the film – a character, an idea, a sce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This will test your understanding of the film, and also your ability to clearly express and develop ideas in your writ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6666"/>
                </a:solidFill>
                <a:latin typeface="Arial"/>
              </a:rPr>
              <a:t>What now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Take notes and keep them tidy, for revision at the end of the yea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Ask questions and offer ideas to help you and your classmates understand the fil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If you miss a lesson, catch up on notes from someone else in the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3366"/>
                </a:solidFill>
                <a:latin typeface="Arial"/>
              </a:rPr>
              <a:t>Hire the film from your video store and watch it at home if you need t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8T06:46:34Z</dcterms:created>
  <dc:creator>Libby</dc:creator>
  <dc:description/>
  <dc:language>en-US</dc:language>
  <cp:lastModifiedBy>Libby</cp:lastModifiedBy>
  <dcterms:modified xsi:type="dcterms:W3CDTF">2009-07-18T07:26:05Z</dcterms:modified>
  <cp:revision>4</cp:revision>
  <dc:subject/>
  <dc:title>Why do we study films?</dc:title>
</cp:coreProperties>
</file>