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82097-9520-4E12-8F51-6733235EA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C2F86-221C-4ECA-A33A-9317B542C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1428AB-A7F7-47D7-8D88-29BFD91FC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EF9DD-FB8B-4849-B3F3-6DCDF721A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64964-5FF8-4A75-B820-B1183EBBF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E5BDA-7ECF-4824-A3D7-A35A37563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7B8D7-A11E-4BB6-81F4-0E03DC8EE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164F0-6FD7-4AB0-9699-4A8E3F277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5DB01-0736-4314-B3FF-7874426AE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03C22-555B-4832-9DB8-3DC8D8F7C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1EC5F-80CB-4C97-B619-E303E001E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C8046-5782-4B56-8956-693CAA44CC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F922-4464-432E-8F6E-34186669BD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intmath.com/Numbers/mathOfBeauty.php"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715920"/>
            <a:ext cx="7772400" cy="129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ffffff"/>
                </a:solidFill>
                <a:latin typeface="Blackadder ITC"/>
              </a:rPr>
              <a:t>She Walks in Beauty Activity</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5229000"/>
            <a:ext cx="6400800" cy="1368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orge Gordon Byron,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rd Byron. 1788–1824</a:t>
            </a: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poem written in 18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effect</a:t>
            </a:r>
            <a:endParaRPr b="0" lang="en-US" sz="6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first line does not complete the image but runs on into the second, so tension is maintained giving the lines momentum, and holding them and the image they contain, toge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4427640" y="3645000"/>
            <a:ext cx="3047760" cy="2876400"/>
          </a:xfrm>
          <a:prstGeom prst="rect">
            <a:avLst/>
          </a:prstGeom>
          <a:ln w="0">
            <a:noFill/>
          </a:ln>
        </p:spPr>
      </p:pic>
      <p:sp>
        <p:nvSpPr>
          <p:cNvPr id="65" name=""/>
          <p:cNvSpPr/>
          <p:nvPr/>
        </p:nvSpPr>
        <p:spPr>
          <a:xfrm>
            <a:off x="87480" y="4313160"/>
            <a:ext cx="4124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form into which the content has been shaped has allowed us to ‘see’ her, in all her dark beauty and dignity.  She is now much more real to us, yet in a sense even more mysteri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Blackadder ITC"/>
              </a:rPr>
              <a:t>The Maths of Beauty</a:t>
            </a:r>
            <a:endParaRPr b="0" lang="en-US" sz="5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intmath.com/Numbers/mathOfBeauty.php</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2"/>
          <a:stretch/>
        </p:blipFill>
        <p:spPr>
          <a:xfrm>
            <a:off x="3348000" y="2276640"/>
            <a:ext cx="3888000" cy="410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0000"/>
                </a:solidFill>
                <a:latin typeface="Blackadder ITC"/>
              </a:rPr>
              <a:t>TASK:</a:t>
            </a:r>
            <a:endParaRPr b="0" lang="en-US" sz="6600" spc="-1" strike="noStrike">
              <a:solidFill>
                <a:srgbClr val="000000"/>
              </a:solidFill>
              <a:latin typeface="Arial"/>
            </a:endParaRPr>
          </a:p>
        </p:txBody>
      </p:sp>
      <p:sp>
        <p:nvSpPr>
          <p:cNvPr id="47" name="PlaceHolder 2"/>
          <p:cNvSpPr>
            <a:spLocks noGrp="1"/>
          </p:cNvSpPr>
          <p:nvPr>
            <p:ph/>
          </p:nvPr>
        </p:nvSpPr>
        <p:spPr>
          <a:xfrm>
            <a:off x="457200" y="1599840"/>
            <a:ext cx="8686800" cy="492444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 Get in a group.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b) Write down these 2 lines.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 Answer the following.</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ntent:</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What do these lines </a:t>
            </a:r>
            <a:r>
              <a:rPr b="1" i="1" lang="en-NZ" sz="3200" spc="-1" strike="noStrike">
                <a:solidFill>
                  <a:srgbClr val="000000"/>
                </a:solidFill>
                <a:latin typeface="Arial"/>
              </a:rPr>
              <a:t>say</a:t>
            </a:r>
            <a:r>
              <a:rPr b="0" lang="en-NZ" sz="3200" spc="-1" strike="noStrike">
                <a:solidFill>
                  <a:srgbClr val="000000"/>
                </a:solidFill>
                <a:latin typeface="Arial"/>
              </a:rPr>
              <a:t>?</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Form:</a:t>
            </a:r>
            <a:r>
              <a:rPr b="0" lang="en-NZ" sz="3200" spc="-1" strike="noStrike">
                <a:solidFill>
                  <a:srgbClr val="000000"/>
                </a:solidFill>
                <a:latin typeface="Arial"/>
              </a:rPr>
              <a:t> </a:t>
            </a:r>
            <a:r>
              <a:rPr b="0" lang="en-NZ" sz="3200" spc="-1" strike="noStrike">
                <a:solidFill>
                  <a:srgbClr val="000000"/>
                </a:solidFill>
                <a:latin typeface="Arial"/>
              </a:rPr>
              <a:t>	</a:t>
            </a:r>
            <a:r>
              <a:rPr b="1" i="1" lang="en-NZ" sz="3200" spc="-1" strike="noStrike">
                <a:solidFill>
                  <a:srgbClr val="000000"/>
                </a:solidFill>
                <a:latin typeface="Arial"/>
              </a:rPr>
              <a:t>How </a:t>
            </a:r>
            <a:r>
              <a:rPr b="0" lang="en-NZ" sz="3200" spc="-1" strike="noStrike">
                <a:solidFill>
                  <a:srgbClr val="000000"/>
                </a:solidFill>
                <a:latin typeface="Arial"/>
              </a:rPr>
              <a:t>it says it? Through technique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Effect:</a:t>
            </a:r>
            <a:r>
              <a:rPr b="0" lang="en-NZ" sz="3200" spc="-1" strike="noStrike">
                <a:solidFill>
                  <a:srgbClr val="000000"/>
                </a:solidFill>
                <a:latin typeface="Arial"/>
              </a:rPr>
              <a:t> </a:t>
            </a:r>
            <a:r>
              <a:rPr b="0" lang="en-NZ" sz="3200" spc="-1" strike="noStrike">
                <a:solidFill>
                  <a:srgbClr val="000000"/>
                </a:solidFill>
                <a:latin typeface="Arial"/>
              </a:rPr>
              <a:t>	</a:t>
            </a:r>
            <a:r>
              <a:rPr b="1" i="1" lang="en-NZ" sz="3200" spc="-1" strike="noStrike">
                <a:solidFill>
                  <a:srgbClr val="000000"/>
                </a:solidFill>
                <a:latin typeface="Arial"/>
              </a:rPr>
              <a:t>What has been achieved?</a:t>
            </a:r>
            <a:r>
              <a:rPr b="0" lang="en-NZ" sz="3200" spc="-1" strike="noStrike">
                <a:solidFill>
                  <a:srgbClr val="000000"/>
                </a:solidFill>
                <a:latin typeface="Arial"/>
              </a:rPr>
              <a:t> What do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we understand and feel from the use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of these technique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684360" y="-243000"/>
            <a:ext cx="2449440" cy="216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7360" y="-40795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walks in beauty, like the nigh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cloudless climes and starry sk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Blackadder ITC"/>
              </a:rPr>
              <a:t>Background on inspiration…</a:t>
            </a:r>
            <a:endParaRPr b="0" lang="en-US" sz="5400" spc="-1" strike="noStrike">
              <a:solidFill>
                <a:srgbClr val="000000"/>
              </a:solidFill>
              <a:latin typeface="Arial"/>
            </a:endParaRPr>
          </a:p>
        </p:txBody>
      </p:sp>
      <p:sp>
        <p:nvSpPr>
          <p:cNvPr id="52"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oem was written after Byron had seen Mrs Wilmot Horton in a ballroom. She was in mourning, wearing a black dress set with spangles, which would explain the opening l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0" i="1" lang="en-US" sz="2800" spc="-1" strike="noStrike">
                <a:solidFill>
                  <a:srgbClr val="000000"/>
                </a:solidFill>
                <a:latin typeface="Arial"/>
              </a:rPr>
              <a:t>She walks in beauty, like the night</a:t>
            </a:r>
            <a:br>
              <a:rPr sz="2800"/>
            </a:br>
            <a:r>
              <a:rPr b="0" i="1" lang="en-US" sz="2800" spc="-1" strike="noStrike">
                <a:solidFill>
                  <a:srgbClr val="000000"/>
                </a:solidFill>
                <a:latin typeface="Arial"/>
              </a:rPr>
              <a:t>Of cloudless climes and starry skies</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Nathan, in his reminiscences of Byron, indicates that the subject of the poem may have been Byron's half-sister, Augus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content</a:t>
            </a:r>
            <a:endParaRPr b="0" lang="en-US" sz="6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 dark lady of beauty and mystery.</a:t>
            </a:r>
            <a:endParaRPr b="0" lang="en-US" sz="3200" spc="-1" strike="noStrike">
              <a:solidFill>
                <a:srgbClr val="000000"/>
              </a:solidFill>
              <a:latin typeface="Arial"/>
            </a:endParaRPr>
          </a:p>
        </p:txBody>
      </p:sp>
      <p:pic>
        <p:nvPicPr>
          <p:cNvPr id="55" name="" descr=""/>
          <p:cNvPicPr/>
          <p:nvPr/>
        </p:nvPicPr>
        <p:blipFill>
          <a:blip r:embed="rId1"/>
          <a:stretch/>
        </p:blipFill>
        <p:spPr>
          <a:xfrm>
            <a:off x="3132000" y="2349360"/>
            <a:ext cx="2971800" cy="39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form</a:t>
            </a:r>
            <a:endParaRPr b="0" lang="en-US" sz="6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lines of iambic tetrameter ‘/’/’/’/, the first a run-on line, eg ‘the night/Of cloudless cl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mile, eg ‘like the n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lliteration, eg ‘cloudless climes’, ‘starry skies’ (sibi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ly three words of more than one syl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effect</a:t>
            </a:r>
            <a:endParaRPr b="0" lang="en-US" sz="60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ight and lady are linked by a simile, so the lady is presumably as dark as the n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ight is cloudless, starry (an image reinforced by the alliteration of ‘cloudless climes’ and ‘starry skies’), and because the lady and night are linked, the lady is given a cool, aloof, yet glowing beauty of the n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linking of the only worlds of more than one syllable, ‘beauty’, ‘cloudless’ and ‘starry’, further emphasises this beau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RE ON NEXT SLIDE &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effect</a:t>
            </a:r>
            <a:endParaRPr b="0" lang="en-US" sz="6000" spc="-1" strike="noStrike">
              <a:solidFill>
                <a:srgbClr val="000000"/>
              </a:solidFill>
              <a:latin typeface="Arial"/>
            </a:endParaRPr>
          </a:p>
        </p:txBody>
      </p:sp>
      <p:sp>
        <p:nvSpPr>
          <p:cNvPr id="61" name="PlaceHolder 2"/>
          <p:cNvSpPr>
            <a:spLocks noGrp="1"/>
          </p:cNvSpPr>
          <p:nvPr>
            <p:ph/>
          </p:nvPr>
        </p:nvSpPr>
        <p:spPr>
          <a:xfrm>
            <a:off x="457200" y="1052280"/>
            <a:ext cx="8229600" cy="561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cause the line structure tends to throw greater emphasis on the first and last word of the line, the night and the lady are even more strongly link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cause she walks ‘in beauty’ it is as if the lady and the night are ‘clothed’ in beauty: beauty is made tangible, concrete and thus more access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poet is constrained by the lines to economise on words; we are not told who she is, there is no introduction: this give the line immediacy and focus, intensifying the image’ it also creates a mood of mystery about the lad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RE ON NEXT SLIDE &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09:26:21Z</dcterms:created>
  <dc:creator>Ministry of Education</dc:creator>
  <dc:description/>
  <dc:language>en-US</dc:language>
  <cp:lastModifiedBy>Ministry of Education</cp:lastModifiedBy>
  <dcterms:modified xsi:type="dcterms:W3CDTF">2010-02-08T00:09:16Z</dcterms:modified>
  <cp:revision>4</cp:revision>
  <dc:subject/>
  <dc:title>She Walks in Beauty Activity</dc:title>
</cp:coreProperties>
</file>