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F507E-8BFF-40CE-949C-C7EB6E29C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9CFBE-E9FE-4653-BF58-9C90AA00E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BCF83-52CD-443C-B541-38D3FA140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C1069F-8BE6-4E18-90A5-FF02A8353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8591D-8370-41B9-98F2-5DCA0AFACB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BAF36-10C7-4AC5-BCEC-683132C1E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7B119-9C01-45B6-8E2C-A56CCDB06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62F04-622F-405E-9585-A0BFAE2E3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01B18-22CA-4B27-9BA2-77A31C698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DCE1-432E-4F1C-94FB-0A2499D3C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728C-A1F1-4C5B-A86F-03CE6DABF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C0597-6233-4251-A125-F7B17502F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F926A-C900-49C4-9202-A8528F68B2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ntmath.com/Numbers/mathOfBeauty.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715920"/>
            <a:ext cx="777240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fffff"/>
                </a:solidFill>
                <a:latin typeface="Blackadder ITC"/>
              </a:rPr>
              <a:t>She Walks in Beauty Activity</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5229000"/>
            <a:ext cx="6400800" cy="1368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Gordon Byron,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Byron. 1788–1824</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poem written in 18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irst line does not complete the image but runs on into the second, so tension is maintained giving the lines momentum, and holding them and the image they contain,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427640" y="3645000"/>
            <a:ext cx="3047760" cy="2876400"/>
          </a:xfrm>
          <a:prstGeom prst="rect">
            <a:avLst/>
          </a:prstGeom>
          <a:ln w="0">
            <a:noFill/>
          </a:ln>
        </p:spPr>
      </p:pic>
      <p:sp>
        <p:nvSpPr>
          <p:cNvPr id="65" name=""/>
          <p:cNvSpPr/>
          <p:nvPr/>
        </p:nvSpPr>
        <p:spPr>
          <a:xfrm>
            <a:off x="87480" y="4313160"/>
            <a:ext cx="4124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orm into which the content has been shaped has allowed us to ‘see’ her, in all her dark beauty and dignity.  She is now much more real to us, yet in a sense even more myster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The Maths of Beauty</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intmath.com/Numbers/mathOfBeauty.php</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3348000" y="2276640"/>
            <a:ext cx="3888000" cy="410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Blackadder ITC"/>
              </a:rPr>
              <a:t>TASK:</a:t>
            </a:r>
            <a:endParaRPr b="0" lang="en-US" sz="6600" spc="-1" strike="noStrike">
              <a:solidFill>
                <a:srgbClr val="000000"/>
              </a:solidFill>
              <a:latin typeface="Arial"/>
            </a:endParaRPr>
          </a:p>
        </p:txBody>
      </p:sp>
      <p:sp>
        <p:nvSpPr>
          <p:cNvPr id="47" name="PlaceHolder 2"/>
          <p:cNvSpPr>
            <a:spLocks noGrp="1"/>
          </p:cNvSpPr>
          <p:nvPr>
            <p:ph/>
          </p:nvPr>
        </p:nvSpPr>
        <p:spPr>
          <a:xfrm>
            <a:off x="457200" y="1599840"/>
            <a:ext cx="8686800" cy="49244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 Get in a group.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 Write down these 2 lines.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 Answer the following.</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tent:</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hat do these lines </a:t>
            </a:r>
            <a:r>
              <a:rPr b="1" i="1" lang="en-NZ" sz="3200" spc="-1" strike="noStrike">
                <a:solidFill>
                  <a:srgbClr val="000000"/>
                </a:solidFill>
                <a:latin typeface="Arial"/>
              </a:rPr>
              <a:t>say</a:t>
            </a:r>
            <a:r>
              <a:rPr b="0" lang="en-NZ" sz="3200" spc="-1" strike="noStrike">
                <a:solidFill>
                  <a:srgbClr val="000000"/>
                </a:solidFill>
                <a:latin typeface="Arial"/>
              </a:rPr>
              <a: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Form:</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How </a:t>
            </a:r>
            <a:r>
              <a:rPr b="0" lang="en-NZ" sz="3200" spc="-1" strike="noStrike">
                <a:solidFill>
                  <a:srgbClr val="000000"/>
                </a:solidFill>
                <a:latin typeface="Arial"/>
              </a:rPr>
              <a:t>it says it? Through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ffect:</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What has been achieved?</a:t>
            </a:r>
            <a:r>
              <a:rPr b="0" lang="en-NZ" sz="3200" spc="-1" strike="noStrike">
                <a:solidFill>
                  <a:srgbClr val="000000"/>
                </a:solidFill>
                <a:latin typeface="Arial"/>
              </a:rPr>
              <a:t> What do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e understand and feel from the use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of these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684360" y="-243000"/>
            <a:ext cx="24494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7360" y="-4079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walks in beauty, like the nigh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loudless climes and starry sk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Background on inspiration…</a:t>
            </a:r>
            <a:endParaRPr b="0" lang="en-US" sz="5400" spc="-1" strike="noStrike">
              <a:solidFill>
                <a:srgbClr val="000000"/>
              </a:solidFill>
              <a:latin typeface="Arial"/>
            </a:endParaRPr>
          </a:p>
        </p:txBody>
      </p:sp>
      <p:sp>
        <p:nvSpPr>
          <p:cNvPr id="52"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em was written after Byron had seen Mrs Wilmot Horton in a ballroom. She was in mourning, wearing a black dress set with spangles, which would explain the opening 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0" i="1" lang="en-US" sz="2800" spc="-1" strike="noStrike">
                <a:solidFill>
                  <a:srgbClr val="000000"/>
                </a:solidFill>
                <a:latin typeface="Arial"/>
              </a:rPr>
              <a:t>She walks in beauty, like the night</a:t>
            </a:r>
            <a:br>
              <a:rPr sz="2800"/>
            </a:br>
            <a:r>
              <a:rPr b="0" i="1" lang="en-US" sz="2800" spc="-1" strike="noStrike">
                <a:solidFill>
                  <a:srgbClr val="000000"/>
                </a:solidFill>
                <a:latin typeface="Arial"/>
              </a:rPr>
              <a:t>Of cloudless climes and starry ski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Nathan, in his reminiscences of Byron, indicates that the subject of the poem may have been Byron's half-sister, Augu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content</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 dark lady of beauty and mystery.</a:t>
            </a:r>
            <a:endParaRPr b="0" lang="en-US" sz="3200" spc="-1" strike="noStrike">
              <a:solidFill>
                <a:srgbClr val="000000"/>
              </a:solidFill>
              <a:latin typeface="Arial"/>
            </a:endParaRPr>
          </a:p>
        </p:txBody>
      </p:sp>
      <p:pic>
        <p:nvPicPr>
          <p:cNvPr id="55" name="" descr=""/>
          <p:cNvPicPr/>
          <p:nvPr/>
        </p:nvPicPr>
        <p:blipFill>
          <a:blip r:embed="rId1"/>
          <a:stretch/>
        </p:blipFill>
        <p:spPr>
          <a:xfrm>
            <a:off x="3132000" y="2349360"/>
            <a:ext cx="2971800" cy="39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form</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lines of iambic tetrameter ‘/’/’/’/, the first a run-on line, eg ‘the night/Of cloudless cl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mile, eg ‘like the 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iteration, eg ‘cloudless climes’, ‘starry skies’ (sibi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y three words of more than one syl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ight and lady are linked by a simile, so the lady is presumably as dark as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ight is cloudless, starry (an image reinforced by the alliteration of ‘cloudless climes’ and ‘starry skies’), and because the lady and night are linked, the lady is given a cool, aloof, yet glowing beauty of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inking of the only worlds of more than one syllable, ‘beauty’, ‘cloudless’ and ‘starry’, further emphasises this beau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1"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the line structure tends to throw greater emphasis on the first and last word of the line, the night and the lady are even more strongly link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she walks ‘in beauty’ it is as if the lady and the night are ‘clothed’ in beauty: beauty is made tangible, concrete and thus more acce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et is constrained by the lines to economise on words; we are not told who she is, there is no introduction: this give the line immediacy and focus, intensifying the image’ it also creates a mood of mystery about the lad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9:26:21Z</dcterms:created>
  <dc:creator>Ministry of Education</dc:creator>
  <dc:description/>
  <dc:language>en-US</dc:language>
  <cp:lastModifiedBy>Ministry of Education</cp:lastModifiedBy>
  <dcterms:modified xsi:type="dcterms:W3CDTF">2010-02-08T00:09:16Z</dcterms:modified>
  <cp:revision>4</cp:revision>
  <dc:subject/>
  <dc:title>She Walks in Beauty Activity</dc:title>
</cp:coreProperties>
</file>